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2B80-EF66-41B9-AAB4-A47885327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5C67-9AB2-4968-9B72-CCAE2AFBF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E4DB-0FC6-41E3-A6D9-13E311B45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8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656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80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8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656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7FE1-133E-4242-8AAD-D5B6A0083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81901-4012-4A50-9434-E27314373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81400-4003-463A-B1DA-FC8D3F842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6F626-E88F-4774-BD3D-CBDD98D8B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57A7A-C1BA-49CC-AB7C-5163014D8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48ACF-765D-4801-9A9D-201B698DB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660A6-03A0-4063-86A5-44C94F024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1616B-62F9-4FCF-9E58-323BF7643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AC03-9E51-4DB9-998F-CCD3E8ABD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8DC07-C638-4BD1-BF61-971949DE7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B5D35-1E21-4E31-ADD7-00EEF546E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AB23E-425A-4403-9C8E-1921AD835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FFBA1-1B77-4CF0-BDC8-58E2679A4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08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3656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80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08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3656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64931-39B2-49D0-A238-A2AA4BA95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9FC8-3C1A-4F76-B047-94D4349A2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F12F-E54F-4845-8DC4-DC226AD6A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9DE4-3A24-436D-B4F5-D66DBFE8E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C13D-A684-4FB8-87CF-13653A2A4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DF9B-176A-4F54-A70B-A3181643F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D720-67B4-4D6D-8647-B212E2A6D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A379-171B-412F-B3BB-9C435813D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5C14E-B507-489B-A2BE-A61BFB998A8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 rot="5400000">
            <a:off x="-1998720" y="2286000"/>
            <a:ext cx="4608720" cy="287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e1"/>
                </a:solidFill>
                <a:latin typeface="Calibri"/>
              </a:rPr>
              <a:t>UŁAMKI ZWYKŁ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e1"/>
              </a:solidFill>
              <a:latin typeface="Calibri"/>
              <a:ea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7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1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FA848-5879-40D3-925A-6EE3D581095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hyperlink" Target="http://pl.wikipedia.org/wiki/Arabia" TargetMode="External"/><Relationship Id="rId4" Type="http://schemas.openxmlformats.org/officeDocument/2006/relationships/hyperlink" Target="http://pl.wikipedia.org/wiki/Algieria" TargetMode="External"/><Relationship Id="rId5" Type="http://schemas.openxmlformats.org/officeDocument/2006/relationships/hyperlink" Target="http://pl.wikipedia.org/wiki/Bid&#380;aja" TargetMode="External"/><Relationship Id="rId6" Type="http://schemas.openxmlformats.org/officeDocument/2006/relationships/hyperlink" Target="http://pl.wikipedia.org/wiki/Egipt" TargetMode="External"/><Relationship Id="rId7" Type="http://schemas.openxmlformats.org/officeDocument/2006/relationships/hyperlink" Target="http://pl.wikipedia.org/wiki/Syria" TargetMode="External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ROZWIĄŻ REB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280" y="81900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Obraz 130" descr=""/>
          <p:cNvPicPr/>
          <p:nvPr/>
        </p:nvPicPr>
        <p:blipFill>
          <a:blip r:embed="rId1"/>
          <a:stretch/>
        </p:blipFill>
        <p:spPr>
          <a:xfrm>
            <a:off x="2322360" y="954000"/>
            <a:ext cx="5311800" cy="51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ĆWICZEN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46280" y="81900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493440" y="1267560"/>
            <a:ext cx="175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66ff"/>
                </a:solidFill>
                <a:latin typeface="Arial"/>
              </a:rPr>
              <a:t>Zapisz ułamk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26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25560" y="1986840"/>
            <a:ext cx="658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sześć dziewiąty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szesnaście trzydziestych trzec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) czterdzieści osiem sto jedenasty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) dwadzieścia dwa pięćdziesiątych trzec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TROCHĘ HISTORI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46280" y="81900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15920" y="1042560"/>
            <a:ext cx="792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ż w roku 300 p.n.e. w swojej książce Euklides „Elementy Euklidesa” wspomina o używaniu ułamków do obliczeń. W starożytnym Egipcie również posługiwano się ułamkami. Oto niektóre z nich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Obraz 134" descr=""/>
          <p:cNvPicPr/>
          <p:nvPr/>
        </p:nvPicPr>
        <p:blipFill>
          <a:blip r:embed="rId1"/>
          <a:stretch/>
        </p:blipFill>
        <p:spPr>
          <a:xfrm>
            <a:off x="1916280" y="2038320"/>
            <a:ext cx="5310000" cy="1390680"/>
          </a:xfrm>
          <a:prstGeom prst="rect">
            <a:avLst/>
          </a:prstGeom>
          <a:ln w="0">
            <a:noFill/>
          </a:ln>
        </p:spPr>
      </p:pic>
      <p:pic>
        <p:nvPicPr>
          <p:cNvPr id="102" name="Obraz 135" descr="http://t3.gstatic.com/images?q=tbn:ANd9GcTpJxOaFD4UI0IkJNoHdv8Z2Rvx_HEtkWj5Tm4ValIFJHwt7l40Vw"/>
          <p:cNvPicPr/>
          <p:nvPr/>
        </p:nvPicPr>
        <p:blipFill>
          <a:blip r:embed="rId2"/>
          <a:stretch/>
        </p:blipFill>
        <p:spPr>
          <a:xfrm>
            <a:off x="692280" y="3743280"/>
            <a:ext cx="1638000" cy="22161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502000" y="3653280"/>
            <a:ext cx="6435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Kreskę ułamkową wprowadził </a:t>
            </a:r>
            <a:r>
              <a:rPr b="1" lang="pl-PL" sz="1800" spc="-1" strike="noStrike">
                <a:solidFill>
                  <a:srgbClr val="6666ff"/>
                </a:solidFill>
                <a:latin typeface="Arial"/>
              </a:rPr>
              <a:t>Fibonacci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 włoski matematyk. Pierwsze lekcje matematyki pobierał od </a:t>
            </a:r>
            <a:r>
              <a:rPr b="0" lang="pl-PL" sz="1800" spc="-1" strike="noStrike" u="sng">
                <a:solidFill>
                  <a:srgbClr val="990033"/>
                </a:solidFill>
                <a:uFillTx/>
                <a:latin typeface="Arial"/>
                <a:hlinkClick r:id="rId3"/>
              </a:rPr>
              <a:t>arabskiego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nauczyciela w mieście Boużia (dziś </a:t>
            </a:r>
            <a:r>
              <a:rPr b="0" lang="pl-PL" sz="1800" spc="-1" strike="noStrike" u="sng">
                <a:solidFill>
                  <a:srgbClr val="990033"/>
                </a:solidFill>
                <a:uFillTx/>
                <a:latin typeface="Arial"/>
                <a:hlinkClick r:id="rId4"/>
              </a:rPr>
              <a:t>algierska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990033"/>
                </a:solidFill>
                <a:uFillTx/>
                <a:latin typeface="Arial"/>
                <a:hlinkClick r:id="rId5"/>
              </a:rPr>
              <a:t>Bidżaja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). Dużo podróżował najpierw odwiedzając i kształcąc się w takich miejscach jak </a:t>
            </a:r>
            <a:r>
              <a:rPr b="0" lang="pl-PL" sz="1800" spc="-1" strike="noStrike" u="sng">
                <a:solidFill>
                  <a:srgbClr val="990033"/>
                </a:solidFill>
                <a:uFillTx/>
                <a:latin typeface="Arial"/>
                <a:hlinkClick r:id="rId6"/>
              </a:rPr>
              <a:t>Egipt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 u="sng">
                <a:solidFill>
                  <a:srgbClr val="990033"/>
                </a:solidFill>
                <a:uFillTx/>
                <a:latin typeface="Arial"/>
                <a:hlinkClick r:id="rId7"/>
              </a:rPr>
              <a:t>Syria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, Prowansja, Grecja i Sycylia. W czasie swych podróży po Europie i po krajach Wschodu miał okazję poznać osiągnięcia matematyków arabskich i hinduskich, między innymi poznał dziesiętny system liczbow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UŁAMEK ZWYKŁ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46280" y="81900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08800" y="1042200"/>
            <a:ext cx="57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Ułamek to liczba określająca część pewnej całośc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48240" y="1432440"/>
            <a:ext cx="9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rzykł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Obraz 137" descr=""/>
          <p:cNvPicPr/>
          <p:nvPr/>
        </p:nvPicPr>
        <p:blipFill>
          <a:blip r:embed="rId1"/>
          <a:stretch/>
        </p:blipFill>
        <p:spPr>
          <a:xfrm>
            <a:off x="1062000" y="1859040"/>
            <a:ext cx="3132000" cy="1569960"/>
          </a:xfrm>
          <a:prstGeom prst="rect">
            <a:avLst/>
          </a:prstGeom>
          <a:ln w="0">
            <a:noFill/>
          </a:ln>
        </p:spPr>
      </p:pic>
      <p:pic>
        <p:nvPicPr>
          <p:cNvPr id="109" name="Obraz 138" descr=""/>
          <p:cNvPicPr/>
          <p:nvPr/>
        </p:nvPicPr>
        <p:blipFill>
          <a:blip r:embed="rId2"/>
          <a:stretch/>
        </p:blipFill>
        <p:spPr>
          <a:xfrm>
            <a:off x="701640" y="4734000"/>
            <a:ext cx="4054680" cy="13795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821640" y="4508640"/>
            <a:ext cx="1441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32000" y="3429000"/>
            <a:ext cx="0" cy="112392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11280" y="3787920"/>
            <a:ext cx="225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dzieliłeś się z kolegą czekoladą częstując go 6 kostkam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2360" y="2257920"/>
            <a:ext cx="4005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ff"/>
                </a:solidFill>
                <a:latin typeface="Arial"/>
              </a:rPr>
              <a:t>Czyli oddałeś koledze 6 kostek z 15, co możemy zapisać w postaci ułamk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02360" y="2867040"/>
            <a:ext cx="0" cy="1123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6867360" y="4103640"/>
            <a:ext cx="689040" cy="13035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6600960" y="410328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My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ś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l 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35960" y="518436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jako 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6107400" y="5633640"/>
            <a:ext cx="2111040" cy="651960"/>
            <a:chOff x="6107400" y="5633640"/>
            <a:chExt cx="2111040" cy="651960"/>
          </a:xfrm>
        </p:grpSpPr>
        <p:sp>
          <p:nvSpPr>
            <p:cNvPr id="119" name=""/>
            <p:cNvSpPr/>
            <p:nvPr/>
          </p:nvSpPr>
          <p:spPr>
            <a:xfrm>
              <a:off x="6599880" y="5633640"/>
              <a:ext cx="97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ześciu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107400" y="5948280"/>
              <a:ext cx="199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z piętnastu kostek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192720" y="5948640"/>
              <a:ext cx="20257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BUDOWA UŁAM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46280" y="81900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Obraz 139" descr=""/>
          <p:cNvPicPr/>
          <p:nvPr/>
        </p:nvPicPr>
        <p:blipFill>
          <a:blip r:embed="rId1"/>
          <a:stretch/>
        </p:blipFill>
        <p:spPr>
          <a:xfrm>
            <a:off x="1916280" y="1409760"/>
            <a:ext cx="6030720" cy="12096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511280" y="3282480"/>
            <a:ext cx="73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ianownik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jest informacja na ile części została podzielona całość, w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icznik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natomiast ile części zabraliśm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142000" y="4419720"/>
            <a:ext cx="5811120" cy="1199880"/>
            <a:chOff x="2142000" y="4419720"/>
            <a:chExt cx="5811120" cy="1199880"/>
          </a:xfrm>
        </p:grpSpPr>
        <p:sp>
          <p:nvSpPr>
            <p:cNvPr id="127" name=""/>
            <p:cNvSpPr/>
            <p:nvPr/>
          </p:nvSpPr>
          <p:spPr>
            <a:xfrm>
              <a:off x="2142000" y="4853160"/>
              <a:ext cx="108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66ff"/>
                  </a:solidFill>
                  <a:latin typeface="Arial"/>
                  <a:ea typeface="Times New Roman"/>
                </a:rPr>
                <a:t>U</a:t>
              </a:r>
              <a:r>
                <a:rPr b="1" lang="en-US" sz="2000" spc="-1" strike="noStrike">
                  <a:solidFill>
                    <a:srgbClr val="6666ff"/>
                  </a:solidFill>
                  <a:latin typeface="Arial"/>
                </a:rPr>
                <a:t>ł</a:t>
              </a:r>
              <a:r>
                <a:rPr b="1" lang="en-US" sz="2000" spc="-1" strike="noStrike">
                  <a:solidFill>
                    <a:srgbClr val="6666ff"/>
                  </a:solidFill>
                  <a:latin typeface="Arial"/>
                  <a:ea typeface="Times New Roman"/>
                </a:rPr>
                <a:t>ame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8" name=""/>
                <p:cNvSpPr txBox="1"/>
                <p:nvPr/>
              </p:nvSpPr>
              <p:spPr>
                <a:xfrm>
                  <a:off x="3490560" y="4419720"/>
                  <a:ext cx="612360" cy="1199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6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29" name=""/>
            <p:cNvSpPr/>
            <p:nvPr/>
          </p:nvSpPr>
          <p:spPr>
            <a:xfrm>
              <a:off x="4430160" y="4823280"/>
              <a:ext cx="352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66ff"/>
                  </a:solidFill>
                  <a:latin typeface="Arial"/>
                  <a:ea typeface="Times New Roman"/>
                </a:rPr>
                <a:t>czytamy: sze</a:t>
              </a:r>
              <a:r>
                <a:rPr b="1" lang="en-US" sz="2000" spc="-1" strike="noStrike">
                  <a:solidFill>
                    <a:srgbClr val="6666ff"/>
                  </a:solidFill>
                  <a:latin typeface="Arial"/>
                </a:rPr>
                <a:t>ść</a:t>
              </a:r>
              <a:r>
                <a:rPr b="1" lang="en-US" sz="2000" spc="-1" strike="noStrike">
                  <a:solidFill>
                    <a:srgbClr val="6666ff"/>
                  </a:solidFill>
                  <a:latin typeface="Arial"/>
                  <a:ea typeface="Times New Roman"/>
                </a:rPr>
                <a:t> pi</a:t>
              </a:r>
              <a:r>
                <a:rPr b="1" lang="en-US" sz="2000" spc="-1" strike="noStrike">
                  <a:solidFill>
                    <a:srgbClr val="6666ff"/>
                  </a:solidFill>
                  <a:latin typeface="Arial"/>
                </a:rPr>
                <a:t>ę</a:t>
              </a:r>
              <a:r>
                <a:rPr b="1" lang="en-US" sz="2000" spc="-1" strike="noStrike">
                  <a:solidFill>
                    <a:srgbClr val="6666ff"/>
                  </a:solidFill>
                  <a:latin typeface="Arial"/>
                  <a:ea typeface="Times New Roman"/>
                </a:rPr>
                <a:t>tnastyc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WIERSZ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46280" y="81900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10560" y="1897560"/>
            <a:ext cx="6229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ff"/>
                </a:solidFill>
                <a:latin typeface="Arial"/>
              </a:rPr>
              <a:t>Jestem sobie kreską ułamkow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ff"/>
                </a:solidFill>
                <a:latin typeface="Arial"/>
              </a:rPr>
              <a:t>Do dzielenia wciąż gotow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ff"/>
                </a:solidFill>
                <a:latin typeface="Arial"/>
              </a:rPr>
              <a:t>Licznik stoi nade mn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ff"/>
                </a:solidFill>
                <a:latin typeface="Arial"/>
              </a:rPr>
              <a:t>Mianownik pode mn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ĆWICZEN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46280" y="81900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02360" y="862920"/>
            <a:ext cx="49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66ff"/>
                </a:solidFill>
                <a:latin typeface="Arial"/>
              </a:rPr>
              <a:t>Zapisz w postaci ułamka, ile części zabran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80560" y="1358280"/>
            <a:ext cx="776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) na ile części została podzielona babka piaskowa, ile części zabr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Obraz 140" descr=""/>
          <p:cNvPicPr/>
          <p:nvPr/>
        </p:nvPicPr>
        <p:blipFill>
          <a:blip r:embed="rId1"/>
          <a:stretch/>
        </p:blipFill>
        <p:spPr>
          <a:xfrm>
            <a:off x="2906640" y="1854360"/>
            <a:ext cx="3759120" cy="18460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816280" y="3691800"/>
            <a:ext cx="44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………………………        …………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61640" y="3967920"/>
            <a:ext cx="746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) na ile części podzielono czekoladowe serce, a ile części zabr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Obraz 141" descr=""/>
          <p:cNvPicPr/>
          <p:nvPr/>
        </p:nvPicPr>
        <p:blipFill>
          <a:blip r:embed="rId2"/>
          <a:stretch/>
        </p:blipFill>
        <p:spPr>
          <a:xfrm>
            <a:off x="3311640" y="4419720"/>
            <a:ext cx="3151080" cy="17082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862360" y="6211080"/>
            <a:ext cx="44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………………………        …………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ĆWICZEN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46280" y="81900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02360" y="862920"/>
            <a:ext cx="49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66ff"/>
                </a:solidFill>
                <a:latin typeface="Arial"/>
              </a:rPr>
              <a:t>Zapisz w postaci ułamka, ile części zabran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78400" y="1358280"/>
            <a:ext cx="617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) z ilu klocków składa się budowla, ile kloców zabr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2360" y="3691800"/>
            <a:ext cx="44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………………………        …………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060560" y="4231440"/>
            <a:ext cx="600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) z ilu kloców składa się rysunek, ile kloców zabr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862360" y="6211080"/>
            <a:ext cx="44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………………………        …………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816280" y="1763640"/>
            <a:ext cx="3717720" cy="1927440"/>
          </a:xfrm>
          <a:prstGeom prst="rect">
            <a:avLst/>
          </a:prstGeom>
          <a:ln w="0">
            <a:noFill/>
          </a:ln>
        </p:spPr>
      </p:pic>
      <p:pic>
        <p:nvPicPr>
          <p:cNvPr id="150" name="Obraz 156" descr=""/>
          <p:cNvPicPr/>
          <p:nvPr/>
        </p:nvPicPr>
        <p:blipFill>
          <a:blip r:embed="rId2"/>
          <a:stretch/>
        </p:blipFill>
        <p:spPr>
          <a:xfrm>
            <a:off x="2411280" y="4778280"/>
            <a:ext cx="4905360" cy="11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ĆWICZEN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46280" y="81900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01640" y="1305720"/>
            <a:ext cx="46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66ff"/>
                </a:solidFill>
                <a:latin typeface="Arial"/>
              </a:rPr>
              <a:t>Podziel figury na równe części i zamaluj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27000" y="3924000"/>
            <a:ext cx="103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 częś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792000" y="1876320"/>
          <a:ext cx="8217000" cy="168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0" y="1876320"/>
                    <a:ext cx="8217000" cy="16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3132000" y="3924000"/>
            <a:ext cx="12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5 częś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653080" y="3924000"/>
            <a:ext cx="12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 częś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723080" y="3924000"/>
            <a:ext cx="12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 częś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ĆWICZEN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46280" y="81900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92360" y="1267560"/>
            <a:ext cx="26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66ff"/>
                </a:solidFill>
                <a:latin typeface="Arial"/>
              </a:rPr>
              <a:t>Zapisz ułamki słowni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26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781280" y="1989000"/>
                <a:ext cx="1003320" cy="427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den>
                        </m:f>
                      </m:e>
                      <m:e>
                        <m:r>
                          <m:t xml:space="preserve">b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5</m:t>
                            </m:r>
                          </m:den>
                        </m:f>
                      </m:e>
                      <m:e>
                        <m:r>
                          <m:t xml:space="preserve">c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  <m:e>
                        <m:r>
                          <m:t xml:space="preserve">d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1T19:53:09Z</dcterms:created>
  <dc:creator>Darek</dc:creator>
  <dc:description/>
  <dc:language>en-US</dc:language>
  <cp:lastModifiedBy>Darek</cp:lastModifiedBy>
  <dcterms:modified xsi:type="dcterms:W3CDTF">2013-08-17T21:28:14Z</dcterms:modified>
  <cp:revision>37</cp:revision>
  <dc:subject/>
  <dc:title>Slajd 1</dc:title>
</cp:coreProperties>
</file>